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09756-F4F4-427E-9CD1-97060FC6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6E35-0789-4BFC-A454-7A9A092A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1CB3-9D89-4E91-8F0B-DBA34265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1130E-79CB-47E6-AE9E-E85AF242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CD7D-1FA5-4811-9B77-C6BCDEB2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FDEA-A1CB-4F6E-A1AE-2262FD74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D241-85C1-4137-A745-12C3E2F9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9E06-2B6F-4D39-BDF3-72700D40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2B6B-0E6D-42EB-81F2-FF57AAE7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C43C-3334-4B93-BA00-20F79EBB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1FC3-AEF8-41C3-A6DB-AE753089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09851-D47E-41DD-B4B9-D6A36401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5F05-D383-4F53-B83A-D37F18AC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00CC-DDED-4E19-BB39-B44DD9F5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866F-1B38-4095-866A-A7884500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46BD-A969-42BD-B34B-CBEA4048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FB4C-2DA0-4BF1-A598-ADE0E8DE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AE29-5B51-4CB8-9168-7C71374E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E4DFD-233F-4BBB-B169-3318B840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7A32C-38F3-47D5-B005-A0A54C44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30058-6369-4132-B6FF-ABAF7C39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8A216-9FB6-4711-B3A8-CFCA8C37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5E891-80D1-49B9-BD59-9BCF9568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91A4-9F77-4478-9370-908E5005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D497-A6E4-473E-A18E-9719EB7FC7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4420-6D2C-47D8-825D-07EF91F4A0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e5e5ff"/>
                </a:solidFill>
                <a:latin typeface="Garamond"/>
              </a:rPr>
              <a:t>Małosygnałowy</a:t>
            </a:r>
            <a:br>
              <a:rPr sz="6000"/>
            </a:br>
            <a:r>
              <a:rPr b="1" lang="pl-PL" sz="6000" spc="-1" strike="noStrike">
                <a:solidFill>
                  <a:srgbClr val="e5e5ff"/>
                </a:solidFill>
                <a:latin typeface="Garamond"/>
              </a:rPr>
              <a:t>wzmacniacz m.cz.</a:t>
            </a:r>
            <a:br>
              <a:rPr sz="6000"/>
            </a:br>
            <a:r>
              <a:rPr b="1" lang="pl-PL" sz="6000" spc="-1" strike="noStrike">
                <a:solidFill>
                  <a:srgbClr val="e5e5ff"/>
                </a:solidFill>
                <a:latin typeface="Garamond"/>
              </a:rPr>
              <a:t>w układzie O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39056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jek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6165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Ver. 1 (21-09-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42920" y="1125360"/>
            <a:ext cx="8893080" cy="525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08000" y="2133720"/>
            <a:ext cx="190692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136000" y="2133720"/>
            <a:ext cx="0" cy="3585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136000" y="3284640"/>
            <a:ext cx="0" cy="3603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76360" y="3718080"/>
            <a:ext cx="0" cy="647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03640" y="206064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03640" y="573408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30520" y="1844640"/>
            <a:ext cx="0" cy="57636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73080" y="1844640"/>
            <a:ext cx="0" cy="57636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43640" y="3429000"/>
            <a:ext cx="0" cy="7920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18520" y="1844640"/>
            <a:ext cx="0" cy="57636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61440" y="1844640"/>
            <a:ext cx="0" cy="57636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19640" y="5373720"/>
            <a:ext cx="0" cy="3603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56360" y="4959360"/>
            <a:ext cx="57600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56360" y="5102280"/>
            <a:ext cx="57600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5080" y="5086440"/>
            <a:ext cx="0" cy="647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24720" y="206064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96000" y="2133720"/>
            <a:ext cx="72072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695640" y="2133720"/>
            <a:ext cx="1800" cy="3585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59640" y="2133720"/>
            <a:ext cx="57636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50920" y="2131920"/>
            <a:ext cx="57636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08000" y="2276640"/>
            <a:ext cx="28728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0920" y="2131920"/>
            <a:ext cx="0" cy="1447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63640" y="3068640"/>
            <a:ext cx="447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912000" y="2709720"/>
            <a:ext cx="455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00360" y="472608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352000" y="2637000"/>
            <a:ext cx="41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84360" y="1268280"/>
            <a:ext cx="503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72360" y="126828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50920" y="3068640"/>
            <a:ext cx="0" cy="217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50920" y="4149720"/>
            <a:ext cx="0" cy="217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5520" y="2581200"/>
            <a:ext cx="43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04000" y="474336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19280" y="3284640"/>
            <a:ext cx="863280" cy="865080"/>
            <a:chOff x="719280" y="3284640"/>
            <a:chExt cx="863280" cy="865080"/>
          </a:xfrm>
        </p:grpSpPr>
        <p:sp>
          <p:nvSpPr>
            <p:cNvPr id="305" name=""/>
            <p:cNvSpPr/>
            <p:nvPr/>
          </p:nvSpPr>
          <p:spPr>
            <a:xfrm>
              <a:off x="719280" y="3284640"/>
              <a:ext cx="863280" cy="865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3640" y="3500280"/>
              <a:ext cx="286920" cy="215640"/>
            </a:xfrm>
            <a:custGeom>
              <a:avLst/>
              <a:gdLst/>
              <a:ahLst/>
              <a:rect l="l" t="t" r="r" b="b"/>
              <a:pathLst>
                <a:path w="181" h="136">
                  <a:moveTo>
                    <a:pt x="0" y="136"/>
                  </a:moveTo>
                  <a:cubicBezTo>
                    <a:pt x="30" y="68"/>
                    <a:pt x="61" y="0"/>
                    <a:pt x="91" y="0"/>
                  </a:cubicBezTo>
                  <a:cubicBezTo>
                    <a:pt x="121" y="0"/>
                    <a:pt x="158" y="106"/>
                    <a:pt x="181" y="136"/>
                  </a:cubicBezTo>
                </a:path>
              </a:pathLst>
            </a:custGeom>
            <a:noFill/>
            <a:ln w="28440">
              <a:solidFill>
                <a:srgbClr val="000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0647000">
              <a:off x="1152000" y="3716280"/>
              <a:ext cx="286920" cy="215280"/>
            </a:xfrm>
            <a:custGeom>
              <a:avLst/>
              <a:gdLst/>
              <a:ahLst/>
              <a:rect l="l" t="t" r="r" b="b"/>
              <a:pathLst>
                <a:path w="181" h="136">
                  <a:moveTo>
                    <a:pt x="0" y="136"/>
                  </a:moveTo>
                  <a:cubicBezTo>
                    <a:pt x="30" y="68"/>
                    <a:pt x="61" y="0"/>
                    <a:pt x="91" y="0"/>
                  </a:cubicBezTo>
                  <a:cubicBezTo>
                    <a:pt x="121" y="0"/>
                    <a:pt x="158" y="106"/>
                    <a:pt x="181" y="136"/>
                  </a:cubicBezTo>
                </a:path>
              </a:pathLst>
            </a:custGeom>
            <a:noFill/>
            <a:ln w="28440">
              <a:solidFill>
                <a:srgbClr val="000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81160" y="3502080"/>
            <a:ext cx="43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E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376360" y="2131920"/>
            <a:ext cx="0" cy="793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29080" y="573408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19640" y="4222800"/>
            <a:ext cx="0" cy="3603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113440" y="2563920"/>
            <a:ext cx="863640" cy="865080"/>
            <a:chOff x="5113440" y="2563920"/>
            <a:chExt cx="863640" cy="865080"/>
          </a:xfrm>
        </p:grpSpPr>
        <p:sp>
          <p:nvSpPr>
            <p:cNvPr id="313" name=""/>
            <p:cNvSpPr/>
            <p:nvPr/>
          </p:nvSpPr>
          <p:spPr>
            <a:xfrm>
              <a:off x="5113440" y="2563920"/>
              <a:ext cx="863640" cy="865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21440" y="2671920"/>
              <a:ext cx="647640" cy="647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45440" y="2781360"/>
              <a:ext cx="0" cy="4316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232000" y="2925720"/>
            <a:ext cx="287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672000" y="2925720"/>
            <a:ext cx="287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76720" y="4583160"/>
            <a:ext cx="28728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53080" y="2492280"/>
            <a:ext cx="287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993080" y="2492280"/>
            <a:ext cx="287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45080" y="4222800"/>
            <a:ext cx="0" cy="7189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16360" y="4221000"/>
            <a:ext cx="1727280" cy="1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43640" y="2133720"/>
            <a:ext cx="0" cy="4302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96000" y="3284640"/>
            <a:ext cx="0" cy="3603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43640" y="2133720"/>
            <a:ext cx="115416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72000" y="4149720"/>
            <a:ext cx="14472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480000" y="364500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920000" y="364500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160720" y="4365720"/>
            <a:ext cx="43308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34920" y="436572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16360" y="2133720"/>
            <a:ext cx="0" cy="7920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16360" y="3718080"/>
            <a:ext cx="0" cy="5029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48000" y="4149720"/>
            <a:ext cx="14472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92720" y="2060640"/>
            <a:ext cx="1150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514"/>
                </a:solidFill>
                <a:latin typeface="Courier New"/>
              </a:rPr>
              <a:t>g</a:t>
            </a:r>
            <a:r>
              <a:rPr b="1" lang="pl-PL" sz="2000" spc="-1" strike="noStrike">
                <a:solidFill>
                  <a:srgbClr val="000514"/>
                </a:solidFill>
                <a:latin typeface="Courier New"/>
              </a:rPr>
              <a:t>m</a:t>
            </a:r>
            <a:r>
              <a:rPr b="1" lang="pl-PL" sz="3200" spc="-1" strike="noStrike">
                <a:solidFill>
                  <a:srgbClr val="000514"/>
                </a:solidFill>
                <a:latin typeface="Courier New"/>
              </a:rPr>
              <a:t>U</a:t>
            </a:r>
            <a:r>
              <a:rPr b="1" lang="pl-PL" sz="2000" spc="-1" strike="noStrike">
                <a:solidFill>
                  <a:srgbClr val="000514"/>
                </a:solidFill>
                <a:latin typeface="Courier New"/>
              </a:rPr>
              <a:t>b’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48000" y="3784680"/>
            <a:ext cx="24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32000" y="1700280"/>
            <a:ext cx="23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43280" y="1700280"/>
            <a:ext cx="447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b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27600" y="1701720"/>
            <a:ext cx="24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W zakresie małych częstotliwości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2707920"/>
            <a:ext cx="0" cy="1368360"/>
          </a:xfrm>
          <a:prstGeom prst="line">
            <a:avLst/>
          </a:prstGeom>
          <a:ln w="2844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00360" y="3068640"/>
            <a:ext cx="79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Courier New"/>
              </a:rPr>
              <a:t>U</a:t>
            </a:r>
            <a:r>
              <a:rPr b="1" lang="pl-PL" sz="2000" spc="-1" strike="noStrike">
                <a:solidFill>
                  <a:srgbClr val="003399"/>
                </a:solidFill>
                <a:latin typeface="Courier New"/>
              </a:rPr>
              <a:t>b’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95640" y="2997360"/>
            <a:ext cx="86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pl-PL" sz="2000" spc="-1" strike="noStrike">
                <a:solidFill>
                  <a:srgbClr val="000514"/>
                </a:solidFill>
                <a:latin typeface="Courier New"/>
              </a:rPr>
              <a:t>b’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Obliczenia – elementy układu zastępczeg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 = R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B1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||R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B2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 = I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[mA]/25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eb’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 = 25/I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[mA]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(jeżeli przyjmiemy I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=I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to r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eb’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 = 1/g</a:t>
            </a:r>
            <a:r>
              <a:rPr b="0" lang="pl-PL" sz="36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pl-PL" sz="4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b’e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pl-PL" sz="4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eb’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Obliczenia – elementy układu zastępczeg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 = 1/2</a:t>
            </a:r>
            <a:r>
              <a:rPr b="0" lang="pl-PL" sz="4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RC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C = 1/2</a:t>
            </a:r>
            <a:r>
              <a:rPr b="0" lang="pl-PL" sz="4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R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42920" y="1125360"/>
            <a:ext cx="8893080" cy="525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08000" y="2133720"/>
            <a:ext cx="190692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36000" y="2133720"/>
            <a:ext cx="0" cy="3585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136000" y="3284640"/>
            <a:ext cx="0" cy="3603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76360" y="3718080"/>
            <a:ext cx="0" cy="647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03640" y="206064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03640" y="573408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730520" y="1844640"/>
            <a:ext cx="0" cy="57636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73080" y="1844640"/>
            <a:ext cx="0" cy="57636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43640" y="3429000"/>
            <a:ext cx="0" cy="7920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418520" y="1844640"/>
            <a:ext cx="0" cy="57636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561440" y="1844640"/>
            <a:ext cx="0" cy="57636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319640" y="5373720"/>
            <a:ext cx="0" cy="3603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6360" y="4959360"/>
            <a:ext cx="57600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56360" y="5102280"/>
            <a:ext cx="57600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5080" y="5086440"/>
            <a:ext cx="0" cy="647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24720" y="206064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732720" y="2133720"/>
            <a:ext cx="68400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695640" y="2133720"/>
            <a:ext cx="1800" cy="3585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559640" y="2133720"/>
            <a:ext cx="57636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116000" y="2131560"/>
            <a:ext cx="611280" cy="1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71640" y="2276640"/>
            <a:ext cx="28728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116000" y="2131920"/>
            <a:ext cx="0" cy="1447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63640" y="3068640"/>
            <a:ext cx="447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912000" y="2709720"/>
            <a:ext cx="455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00360" y="472608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52000" y="2637000"/>
            <a:ext cx="41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84360" y="1268280"/>
            <a:ext cx="503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272360" y="126828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16000" y="3068640"/>
            <a:ext cx="0" cy="217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16000" y="4149720"/>
            <a:ext cx="0" cy="217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5520" y="2581200"/>
            <a:ext cx="43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904000" y="474336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84360" y="3284640"/>
            <a:ext cx="863280" cy="865080"/>
            <a:chOff x="684360" y="3284640"/>
            <a:chExt cx="863280" cy="865080"/>
          </a:xfrm>
        </p:grpSpPr>
        <p:sp>
          <p:nvSpPr>
            <p:cNvPr id="381" name=""/>
            <p:cNvSpPr/>
            <p:nvPr/>
          </p:nvSpPr>
          <p:spPr>
            <a:xfrm>
              <a:off x="684360" y="3284640"/>
              <a:ext cx="863280" cy="865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8720" y="3500280"/>
              <a:ext cx="286920" cy="215640"/>
            </a:xfrm>
            <a:custGeom>
              <a:avLst/>
              <a:gdLst/>
              <a:ahLst/>
              <a:rect l="l" t="t" r="r" b="b"/>
              <a:pathLst>
                <a:path w="181" h="136">
                  <a:moveTo>
                    <a:pt x="0" y="136"/>
                  </a:moveTo>
                  <a:cubicBezTo>
                    <a:pt x="30" y="68"/>
                    <a:pt x="61" y="0"/>
                    <a:pt x="91" y="0"/>
                  </a:cubicBezTo>
                  <a:cubicBezTo>
                    <a:pt x="121" y="0"/>
                    <a:pt x="158" y="106"/>
                    <a:pt x="181" y="136"/>
                  </a:cubicBezTo>
                </a:path>
              </a:pathLst>
            </a:custGeom>
            <a:noFill/>
            <a:ln w="28440">
              <a:solidFill>
                <a:srgbClr val="000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0647000">
              <a:off x="1117080" y="3716280"/>
              <a:ext cx="286920" cy="215280"/>
            </a:xfrm>
            <a:custGeom>
              <a:avLst/>
              <a:gdLst/>
              <a:ahLst/>
              <a:rect l="l" t="t" r="r" b="b"/>
              <a:pathLst>
                <a:path w="181" h="136">
                  <a:moveTo>
                    <a:pt x="0" y="136"/>
                  </a:moveTo>
                  <a:cubicBezTo>
                    <a:pt x="30" y="68"/>
                    <a:pt x="61" y="0"/>
                    <a:pt x="91" y="0"/>
                  </a:cubicBezTo>
                  <a:cubicBezTo>
                    <a:pt x="121" y="0"/>
                    <a:pt x="158" y="106"/>
                    <a:pt x="181" y="136"/>
                  </a:cubicBezTo>
                </a:path>
              </a:pathLst>
            </a:custGeom>
            <a:noFill/>
            <a:ln w="28440">
              <a:solidFill>
                <a:srgbClr val="000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50920" y="3502080"/>
            <a:ext cx="43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E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76360" y="2131920"/>
            <a:ext cx="0" cy="793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29080" y="573408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19640" y="4222800"/>
            <a:ext cx="0" cy="3603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113440" y="2563920"/>
            <a:ext cx="863640" cy="865080"/>
            <a:chOff x="5113440" y="2563920"/>
            <a:chExt cx="863640" cy="865080"/>
          </a:xfrm>
        </p:grpSpPr>
        <p:sp>
          <p:nvSpPr>
            <p:cNvPr id="389" name=""/>
            <p:cNvSpPr/>
            <p:nvPr/>
          </p:nvSpPr>
          <p:spPr>
            <a:xfrm>
              <a:off x="5113440" y="2563920"/>
              <a:ext cx="863640" cy="865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21440" y="2671920"/>
              <a:ext cx="647640" cy="647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45440" y="2781360"/>
              <a:ext cx="0" cy="4316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2232000" y="2925720"/>
            <a:ext cx="287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672000" y="2925720"/>
            <a:ext cx="287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176720" y="4583160"/>
            <a:ext cx="28728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53080" y="2492280"/>
            <a:ext cx="287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993080" y="2492280"/>
            <a:ext cx="287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45080" y="4222800"/>
            <a:ext cx="0" cy="7189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16360" y="4221000"/>
            <a:ext cx="1727280" cy="1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43640" y="2133720"/>
            <a:ext cx="0" cy="4302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696000" y="3284640"/>
            <a:ext cx="0" cy="3603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43640" y="2133720"/>
            <a:ext cx="111600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472000" y="4149720"/>
            <a:ext cx="14472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80000" y="364500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920000" y="364500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60720" y="4365720"/>
            <a:ext cx="43308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00000" y="436572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16360" y="2133720"/>
            <a:ext cx="0" cy="7920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16360" y="3718080"/>
            <a:ext cx="0" cy="5029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248000" y="4149720"/>
            <a:ext cx="14472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11640" y="2205000"/>
            <a:ext cx="1150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514"/>
                </a:solidFill>
                <a:latin typeface="Courier New"/>
              </a:rPr>
              <a:t>g</a:t>
            </a:r>
            <a:r>
              <a:rPr b="1" lang="pl-PL" sz="2000" spc="-1" strike="noStrike">
                <a:solidFill>
                  <a:srgbClr val="000514"/>
                </a:solidFill>
                <a:latin typeface="Courier New"/>
              </a:rPr>
              <a:t>m</a:t>
            </a:r>
            <a:r>
              <a:rPr b="1" lang="pl-PL" sz="3200" spc="-1" strike="noStrike">
                <a:solidFill>
                  <a:srgbClr val="000514"/>
                </a:solidFill>
                <a:latin typeface="Courier New"/>
              </a:rPr>
              <a:t>U</a:t>
            </a:r>
            <a:r>
              <a:rPr b="1" lang="pl-PL" sz="2000" spc="-1" strike="noStrike">
                <a:solidFill>
                  <a:srgbClr val="000514"/>
                </a:solidFill>
                <a:latin typeface="Courier New"/>
              </a:rPr>
              <a:t>b’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248000" y="3784680"/>
            <a:ext cx="24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32000" y="1700280"/>
            <a:ext cx="23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743280" y="1768320"/>
            <a:ext cx="447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b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727600" y="1701720"/>
            <a:ext cx="24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W zakresie małych częstotliwości – obliczamy C</a:t>
            </a: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1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6" name=""/>
          <p:cNvSpPr/>
          <p:nvPr/>
        </p:nvSpPr>
        <p:spPr>
          <a:xfrm>
            <a:off x="2771640" y="3068640"/>
            <a:ext cx="86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pl-PL" sz="2000" spc="-1" strike="noStrike">
                <a:solidFill>
                  <a:srgbClr val="000514"/>
                </a:solidFill>
                <a:latin typeface="Courier New"/>
              </a:rPr>
              <a:t>b’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508720" y="4220640"/>
            <a:ext cx="0" cy="1513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1116000" y="3284280"/>
            <a:ext cx="0" cy="9363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42920" y="1125360"/>
            <a:ext cx="8893080" cy="525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24000" y="2133720"/>
            <a:ext cx="165600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376360" y="3718080"/>
            <a:ext cx="0" cy="647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03640" y="206064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64000" y="436572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116000" y="2133720"/>
            <a:ext cx="28728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71640" y="2276640"/>
            <a:ext cx="28728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16000" y="2131920"/>
            <a:ext cx="0" cy="1447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63640" y="3068640"/>
            <a:ext cx="447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116000" y="3068640"/>
            <a:ext cx="0" cy="12970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5520" y="2581200"/>
            <a:ext cx="43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376360" y="2131920"/>
            <a:ext cx="0" cy="793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232000" y="2925720"/>
            <a:ext cx="287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635280" y="2925720"/>
            <a:ext cx="287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60720" y="4365720"/>
            <a:ext cx="43308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00000" y="436572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780000" y="2133720"/>
            <a:ext cx="0" cy="7920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780000" y="3718080"/>
            <a:ext cx="0" cy="647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W zakresie małych częstotliwości – obliczamy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1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"/>
          <p:cNvSpPr/>
          <p:nvPr/>
        </p:nvSpPr>
        <p:spPr>
          <a:xfrm>
            <a:off x="2771640" y="3068640"/>
            <a:ext cx="86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pl-PL" sz="2000" spc="-1" strike="noStrike">
                <a:solidFill>
                  <a:srgbClr val="000514"/>
                </a:solidFill>
                <a:latin typeface="Courier New"/>
              </a:rPr>
              <a:t>b’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403280" y="1628640"/>
            <a:ext cx="86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=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284720" y="4292640"/>
                <a:ext cx="446400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42920" y="1125360"/>
            <a:ext cx="8893080" cy="525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136000" y="2133720"/>
            <a:ext cx="0" cy="3585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136000" y="3284640"/>
            <a:ext cx="0" cy="3603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32720" y="2133720"/>
            <a:ext cx="36036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730560" y="2133720"/>
            <a:ext cx="1800" cy="3585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956720" y="2133720"/>
            <a:ext cx="17928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24600" y="2709720"/>
            <a:ext cx="455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352000" y="2637000"/>
            <a:ext cx="41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093080" y="1628640"/>
            <a:ext cx="860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=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589800" y="2492280"/>
            <a:ext cx="287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993080" y="2492280"/>
            <a:ext cx="287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32720" y="3284640"/>
            <a:ext cx="0" cy="3603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515280" y="3645000"/>
            <a:ext cx="43308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20000" y="364500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W zakresie małych częstotliwości – obliczamy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C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2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900000" y="2629080"/>
                <a:ext cx="422460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42920" y="1125360"/>
            <a:ext cx="8893080" cy="525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76360" y="3718080"/>
            <a:ext cx="0" cy="647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03640" y="206064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103640" y="573408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319640" y="5373720"/>
            <a:ext cx="0" cy="3603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508720" y="5445000"/>
            <a:ext cx="0" cy="2890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116000" y="2133720"/>
            <a:ext cx="266400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71640" y="2276640"/>
            <a:ext cx="28728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116000" y="2131920"/>
            <a:ext cx="0" cy="1447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763640" y="3068640"/>
            <a:ext cx="447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600360" y="472608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16000" y="3068640"/>
            <a:ext cx="0" cy="12970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5520" y="2581200"/>
            <a:ext cx="43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376360" y="2131920"/>
            <a:ext cx="0" cy="793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292720" y="573408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319640" y="4222800"/>
            <a:ext cx="0" cy="3603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32000" y="2925720"/>
            <a:ext cx="287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35280" y="2925720"/>
            <a:ext cx="287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76720" y="4583160"/>
            <a:ext cx="28728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508720" y="4222800"/>
            <a:ext cx="0" cy="3585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780000" y="4221000"/>
            <a:ext cx="1726920" cy="1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60720" y="4365720"/>
            <a:ext cx="43308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900000" y="436572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80000" y="2133720"/>
            <a:ext cx="0" cy="7920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780000" y="3718080"/>
            <a:ext cx="0" cy="5029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48000" y="4149720"/>
            <a:ext cx="14472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W zakresie małych częstotliwości – obliczamy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C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E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"/>
          <p:cNvSpPr/>
          <p:nvPr/>
        </p:nvSpPr>
        <p:spPr>
          <a:xfrm>
            <a:off x="2771640" y="3068640"/>
            <a:ext cx="86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pl-PL" sz="2000" spc="-1" strike="noStrike">
                <a:solidFill>
                  <a:srgbClr val="000514"/>
                </a:solidFill>
                <a:latin typeface="Courier New"/>
              </a:rPr>
              <a:t>b’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435640" y="4797360"/>
            <a:ext cx="860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=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4000" y="1844640"/>
            <a:ext cx="3743280" cy="2232000"/>
          </a:xfrm>
          <a:prstGeom prst="rect">
            <a:avLst/>
          </a:prstGeom>
          <a:solidFill>
            <a:srgbClr val="ffffcc">
              <a:alpha val="27000"/>
            </a:srgbClr>
          </a:solidFill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 rot="10800000">
            <a:off x="4066200" y="2133720"/>
            <a:ext cx="1081080" cy="2087280"/>
          </a:xfrm>
          <a:custGeom>
            <a:avLst/>
            <a:gdLst>
              <a:gd name="textAreaLeft" fmla="*/ 463320 w 1081080"/>
              <a:gd name="textAreaRight" fmla="*/ 1015200 w 1081080"/>
              <a:gd name="textAreaTop" fmla="*/ 1029960 h 2087280"/>
              <a:gd name="textAreaBottom" fmla="*/ 1960200 h 2087280"/>
            </a:gdLst>
            <a:ahLst/>
            <a:rect l="textAreaLeft" t="textAreaTop" r="textAreaRight" b="textAreaBottom"/>
            <a:pathLst>
              <a:path w="21600" h="21600">
                <a:moveTo>
                  <a:pt x="0" y="11974"/>
                </a:moveTo>
                <a:lnTo>
                  <a:pt x="10657" y="11974"/>
                </a:lnTo>
                <a:lnTo>
                  <a:pt x="10657" y="9257"/>
                </a:lnTo>
                <a:lnTo>
                  <a:pt x="9340" y="9257"/>
                </a:lnTo>
                <a:lnTo>
                  <a:pt x="15470" y="0"/>
                </a:lnTo>
                <a:lnTo>
                  <a:pt x="21600" y="9257"/>
                </a:lnTo>
                <a:lnTo>
                  <a:pt x="20283" y="9257"/>
                </a:lnTo>
                <a:lnTo>
                  <a:pt x="202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>
              <a:alpha val="27000"/>
            </a:srgbClr>
          </a:solidFill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211640" y="2421000"/>
            <a:ext cx="79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1/</a:t>
            </a:r>
            <a:r>
              <a:rPr b="1" lang="en-US" sz="3200" spc="-1" strike="noStrike">
                <a:solidFill>
                  <a:srgbClr val="000514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5219640" y="1413000"/>
                <a:ext cx="3673440" cy="16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42920" y="836640"/>
            <a:ext cx="8893080" cy="561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87280" y="1413000"/>
            <a:ext cx="259272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101080" y="1413000"/>
            <a:ext cx="0" cy="7905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01080" y="2995560"/>
            <a:ext cx="0" cy="649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376360" y="2997360"/>
            <a:ext cx="0" cy="647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33992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588000" y="1339920"/>
            <a:ext cx="14472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696000" y="1413000"/>
            <a:ext cx="140508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044720" y="1555920"/>
            <a:ext cx="28728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87280" y="1411200"/>
            <a:ext cx="0" cy="1447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763640" y="2347920"/>
            <a:ext cx="447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912000" y="2421000"/>
            <a:ext cx="455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352000" y="2347920"/>
            <a:ext cx="41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187280" y="2347920"/>
            <a:ext cx="0" cy="217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187280" y="3429000"/>
            <a:ext cx="0" cy="217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3520" y="1700280"/>
            <a:ext cx="43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755640" y="2563920"/>
            <a:ext cx="863640" cy="865080"/>
            <a:chOff x="755640" y="2563920"/>
            <a:chExt cx="863640" cy="865080"/>
          </a:xfrm>
        </p:grpSpPr>
        <p:sp>
          <p:nvSpPr>
            <p:cNvPr id="507" name=""/>
            <p:cNvSpPr/>
            <p:nvPr/>
          </p:nvSpPr>
          <p:spPr>
            <a:xfrm>
              <a:off x="755640" y="2563920"/>
              <a:ext cx="863640" cy="865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00360" y="2779560"/>
              <a:ext cx="287280" cy="215640"/>
            </a:xfrm>
            <a:custGeom>
              <a:avLst/>
              <a:gdLst/>
              <a:ahLst/>
              <a:rect l="l" t="t" r="r" b="b"/>
              <a:pathLst>
                <a:path w="181" h="136">
                  <a:moveTo>
                    <a:pt x="0" y="136"/>
                  </a:moveTo>
                  <a:cubicBezTo>
                    <a:pt x="30" y="68"/>
                    <a:pt x="61" y="0"/>
                    <a:pt x="91" y="0"/>
                  </a:cubicBezTo>
                  <a:cubicBezTo>
                    <a:pt x="121" y="0"/>
                    <a:pt x="158" y="106"/>
                    <a:pt x="181" y="136"/>
                  </a:cubicBezTo>
                </a:path>
              </a:pathLst>
            </a:custGeom>
            <a:noFill/>
            <a:ln w="28440">
              <a:solidFill>
                <a:srgbClr val="000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0647000">
              <a:off x="1189080" y="2995560"/>
              <a:ext cx="287280" cy="215280"/>
            </a:xfrm>
            <a:custGeom>
              <a:avLst/>
              <a:gdLst/>
              <a:ahLst/>
              <a:rect l="l" t="t" r="r" b="b"/>
              <a:pathLst>
                <a:path w="181" h="136">
                  <a:moveTo>
                    <a:pt x="0" y="136"/>
                  </a:moveTo>
                  <a:cubicBezTo>
                    <a:pt x="30" y="68"/>
                    <a:pt x="61" y="0"/>
                    <a:pt x="91" y="0"/>
                  </a:cubicBezTo>
                  <a:cubicBezTo>
                    <a:pt x="121" y="0"/>
                    <a:pt x="158" y="106"/>
                    <a:pt x="181" y="136"/>
                  </a:cubicBezTo>
                </a:path>
              </a:pathLst>
            </a:custGeom>
            <a:noFill/>
            <a:ln w="28440">
              <a:solidFill>
                <a:srgbClr val="000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281160" y="2781360"/>
            <a:ext cx="43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E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376360" y="1411200"/>
            <a:ext cx="0" cy="793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564000" y="364500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148360" y="2130480"/>
            <a:ext cx="863640" cy="865080"/>
            <a:chOff x="5148360" y="2130480"/>
            <a:chExt cx="863640" cy="865080"/>
          </a:xfrm>
        </p:grpSpPr>
        <p:sp>
          <p:nvSpPr>
            <p:cNvPr id="514" name=""/>
            <p:cNvSpPr/>
            <p:nvPr/>
          </p:nvSpPr>
          <p:spPr>
            <a:xfrm>
              <a:off x="5148360" y="2130480"/>
              <a:ext cx="863640" cy="865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56360" y="2238480"/>
              <a:ext cx="647640" cy="647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80360" y="2347920"/>
              <a:ext cx="0" cy="4316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232000" y="2205000"/>
            <a:ext cx="287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5280" y="2205000"/>
            <a:ext cx="287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516720" y="2203560"/>
            <a:ext cx="28728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956720" y="2203560"/>
            <a:ext cx="28728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580000" y="1413000"/>
            <a:ext cx="0" cy="7189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659640" y="2995560"/>
            <a:ext cx="0" cy="649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578560" y="1413000"/>
            <a:ext cx="115416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443640" y="364500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885080" y="364500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60720" y="3645000"/>
            <a:ext cx="43308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69840" y="364500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780000" y="1413000"/>
            <a:ext cx="0" cy="7920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27640" y="1573200"/>
            <a:ext cx="1150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514"/>
                </a:solidFill>
                <a:latin typeface="Courier New"/>
              </a:rPr>
              <a:t>g</a:t>
            </a:r>
            <a:r>
              <a:rPr b="1" lang="pl-PL" sz="2000" spc="-1" strike="noStrike">
                <a:solidFill>
                  <a:srgbClr val="000514"/>
                </a:solidFill>
                <a:latin typeface="Courier New"/>
              </a:rPr>
              <a:t>m</a:t>
            </a:r>
            <a:r>
              <a:rPr b="1" lang="pl-PL" sz="3200" spc="-1" strike="noStrike">
                <a:solidFill>
                  <a:srgbClr val="000514"/>
                </a:solidFill>
                <a:latin typeface="Courier New"/>
              </a:rPr>
              <a:t>U</a:t>
            </a:r>
            <a:r>
              <a:rPr b="1" lang="pl-PL" sz="2000" spc="-1" strike="noStrike">
                <a:solidFill>
                  <a:srgbClr val="000514"/>
                </a:solidFill>
                <a:latin typeface="Courier New"/>
              </a:rPr>
              <a:t>b’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38520" y="3422520"/>
            <a:ext cx="24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232000" y="979560"/>
            <a:ext cx="23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43280" y="979560"/>
            <a:ext cx="447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b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032360" y="2421000"/>
            <a:ext cx="68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pl-PL" sz="1400" spc="-1" strike="noStrike">
                <a:solidFill>
                  <a:srgbClr val="000514"/>
                </a:solidFill>
                <a:latin typeface="Courier New"/>
              </a:rPr>
              <a:t>b’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27600" y="981000"/>
            <a:ext cx="24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W zakresie średnich częstotliwości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50920" y="3808440"/>
                <a:ext cx="83534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limUpp>
                          <m:e/>
                          <m:lim/>
                        </m:limUpp>
                        <m:r>
                          <m:t xml:space="preserve">⇒</m:t>
                        </m:r>
                        <m:limUpp>
                          <m:e/>
                          <m:lim/>
                        </m:limUp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O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O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 flipV="1">
            <a:off x="3492360" y="1987200"/>
            <a:ext cx="0" cy="1368360"/>
          </a:xfrm>
          <a:prstGeom prst="line">
            <a:avLst/>
          </a:prstGeom>
          <a:ln w="2844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700360" y="2347920"/>
            <a:ext cx="79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Courier New"/>
              </a:rPr>
              <a:t>U</a:t>
            </a:r>
            <a:r>
              <a:rPr b="1" lang="pl-PL" sz="2000" spc="-1" strike="noStrike">
                <a:solidFill>
                  <a:srgbClr val="003399"/>
                </a:solidFill>
                <a:latin typeface="Courier New"/>
              </a:rPr>
              <a:t>b’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780000" y="2995560"/>
            <a:ext cx="0" cy="649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59640" y="1413000"/>
            <a:ext cx="0" cy="7905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62560" y="364500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80000" y="2995560"/>
            <a:ext cx="0" cy="649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812000" y="1844280"/>
            <a:ext cx="0" cy="1368360"/>
          </a:xfrm>
          <a:prstGeom prst="line">
            <a:avLst/>
          </a:prstGeom>
          <a:ln w="2844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182000" y="2060640"/>
            <a:ext cx="630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Courier New"/>
              </a:rPr>
              <a:t>U</a:t>
            </a:r>
            <a:r>
              <a:rPr b="1" lang="pl-PL" sz="2000" spc="-1" strike="noStrike">
                <a:solidFill>
                  <a:srgbClr val="003399"/>
                </a:solidFill>
                <a:latin typeface="Courier New"/>
              </a:rPr>
              <a:t>w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4211640" y="5564160"/>
                <a:ext cx="45356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,</m:t>
                    </m:r>
                    <m:limUpp>
                      <m:e/>
                      <m:lim/>
                    </m:limUp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limUpp>
                      <m:e/>
                      <m:lim/>
                    </m:limUp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ymulacja układu wzmacniacz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erujemy węzł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zygotowujemy plik dla PSP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76720" y="1628640"/>
            <a:ext cx="43164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276720" y="4219560"/>
            <a:ext cx="43164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596360" y="3789360"/>
            <a:ext cx="43164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3492000" y="2708280"/>
            <a:ext cx="1800" cy="15127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3500280"/>
            <a:ext cx="201600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87640" y="6021360"/>
            <a:ext cx="482436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812000" y="2565360"/>
            <a:ext cx="0" cy="1225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812000" y="4870440"/>
            <a:ext cx="0" cy="11509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492360" y="5300640"/>
            <a:ext cx="1800" cy="7207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492360" y="765000"/>
            <a:ext cx="237492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94160" y="765000"/>
            <a:ext cx="0" cy="863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597040" y="1773360"/>
            <a:ext cx="606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B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421080" y="342900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21080" y="5948280"/>
            <a:ext cx="144360" cy="1447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643280" y="6093000"/>
            <a:ext cx="28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146560" y="630864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364000" y="6021360"/>
            <a:ext cx="0" cy="2890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57480" y="6021360"/>
            <a:ext cx="173016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57440" y="3213000"/>
            <a:ext cx="0" cy="57636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700360" y="3213000"/>
            <a:ext cx="0" cy="57636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716360" y="2997360"/>
            <a:ext cx="0" cy="1008000"/>
          </a:xfrm>
          <a:prstGeom prst="line">
            <a:avLst/>
          </a:prstGeom>
          <a:ln w="7632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16360" y="3573360"/>
            <a:ext cx="647640" cy="576360"/>
          </a:xfrm>
          <a:prstGeom prst="line">
            <a:avLst/>
          </a:prstGeom>
          <a:ln w="28440">
            <a:solidFill>
              <a:srgbClr val="000514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4716360" y="2852280"/>
            <a:ext cx="576360" cy="576360"/>
          </a:xfrm>
          <a:prstGeom prst="line">
            <a:avLst/>
          </a:prstGeom>
          <a:ln w="284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076720" y="1197000"/>
            <a:ext cx="43200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292720" y="765000"/>
            <a:ext cx="0" cy="4320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148360" y="4581360"/>
            <a:ext cx="43164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57800" y="2276640"/>
            <a:ext cx="0" cy="57600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300720" y="2276640"/>
            <a:ext cx="0" cy="57600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64000" y="4149720"/>
            <a:ext cx="0" cy="431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64000" y="5661000"/>
            <a:ext cx="0" cy="3603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940360" y="5013360"/>
            <a:ext cx="57636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0360" y="5156280"/>
            <a:ext cx="57636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29440" y="4365720"/>
            <a:ext cx="0" cy="647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229440" y="5157720"/>
            <a:ext cx="0" cy="863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64000" y="4365720"/>
            <a:ext cx="86544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92720" y="595008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292720" y="429264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219640" y="2492280"/>
            <a:ext cx="144360" cy="1447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156360" y="595008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92720" y="2565360"/>
            <a:ext cx="86364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92720" y="2276640"/>
            <a:ext cx="0" cy="5760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300720" y="2565360"/>
            <a:ext cx="151128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258920" y="3500280"/>
            <a:ext cx="129708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042920" y="3645000"/>
            <a:ext cx="43200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58920" y="3500280"/>
            <a:ext cx="0" cy="1447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26920" y="4941720"/>
            <a:ext cx="863640" cy="865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612880" y="4365720"/>
            <a:ext cx="590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B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48240" y="1557360"/>
            <a:ext cx="455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611600" y="486900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101080" y="4076640"/>
            <a:ext cx="503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11280" y="2637000"/>
            <a:ext cx="503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012000" y="170028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724280"/>
            <a:ext cx="0" cy="217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58920" y="5805360"/>
            <a:ext cx="0" cy="217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33520" y="3949560"/>
            <a:ext cx="43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588000" y="479736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219640" y="69228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867280" y="692280"/>
            <a:ext cx="144720" cy="144360"/>
          </a:xfrm>
          <a:prstGeom prst="ellipse">
            <a:avLst/>
          </a:prstGeom>
          <a:noFill/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71640" y="5157720"/>
            <a:ext cx="287280" cy="216000"/>
          </a:xfrm>
          <a:custGeom>
            <a:avLst/>
            <a:gdLst/>
            <a:ahLst/>
            <a:rect l="l" t="t" r="r" b="b"/>
            <a:pathLst>
              <a:path w="181" h="136">
                <a:moveTo>
                  <a:pt x="0" y="136"/>
                </a:moveTo>
                <a:cubicBezTo>
                  <a:pt x="30" y="68"/>
                  <a:pt x="61" y="0"/>
                  <a:pt x="91" y="0"/>
                </a:cubicBezTo>
                <a:cubicBezTo>
                  <a:pt x="121" y="0"/>
                  <a:pt x="158" y="106"/>
                  <a:pt x="181" y="136"/>
                </a:cubicBezTo>
              </a:path>
            </a:pathLst>
          </a:custGeom>
          <a:noFill/>
          <a:ln w="28440">
            <a:solidFill>
              <a:srgbClr val="0005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10647000">
            <a:off x="1260360" y="5373720"/>
            <a:ext cx="287280" cy="216000"/>
          </a:xfrm>
          <a:custGeom>
            <a:avLst/>
            <a:gdLst/>
            <a:ahLst/>
            <a:rect l="l" t="t" r="r" b="b"/>
            <a:pathLst>
              <a:path w="181" h="136">
                <a:moveTo>
                  <a:pt x="0" y="136"/>
                </a:moveTo>
                <a:cubicBezTo>
                  <a:pt x="30" y="68"/>
                  <a:pt x="61" y="0"/>
                  <a:pt x="91" y="0"/>
                </a:cubicBezTo>
                <a:cubicBezTo>
                  <a:pt x="121" y="0"/>
                  <a:pt x="158" y="106"/>
                  <a:pt x="181" y="136"/>
                </a:cubicBezTo>
              </a:path>
            </a:pathLst>
          </a:custGeom>
          <a:noFill/>
          <a:ln w="28440">
            <a:solidFill>
              <a:srgbClr val="0005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4000" y="5102280"/>
            <a:ext cx="43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E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156360" y="476280"/>
            <a:ext cx="936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+U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619280" y="465300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76360" y="3068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635280" y="3068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859280" y="33336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59280" y="234936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0872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659640" y="213372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1628640"/>
            <a:ext cx="43164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19560"/>
            <a:ext cx="43164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96360" y="3789360"/>
            <a:ext cx="43164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92000" y="2708280"/>
            <a:ext cx="1800" cy="15127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00360" y="3500280"/>
            <a:ext cx="201600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87640" y="6021360"/>
            <a:ext cx="482436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12000" y="2565360"/>
            <a:ext cx="0" cy="1225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12000" y="4870440"/>
            <a:ext cx="0" cy="11509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5300640"/>
            <a:ext cx="1800" cy="7207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765000"/>
            <a:ext cx="237492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4160" y="765000"/>
            <a:ext cx="0" cy="863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7040" y="1773360"/>
            <a:ext cx="606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B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1080" y="342900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21080" y="5948280"/>
            <a:ext cx="144360" cy="1447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6560" y="630864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6021360"/>
            <a:ext cx="0" cy="2890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7480" y="6021360"/>
            <a:ext cx="173016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7440" y="3213000"/>
            <a:ext cx="0" cy="57636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3213000"/>
            <a:ext cx="0" cy="57636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2997360"/>
            <a:ext cx="0" cy="1008000"/>
          </a:xfrm>
          <a:prstGeom prst="line">
            <a:avLst/>
          </a:prstGeom>
          <a:ln w="7632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3573360"/>
            <a:ext cx="647640" cy="576360"/>
          </a:xfrm>
          <a:prstGeom prst="line">
            <a:avLst/>
          </a:prstGeom>
          <a:ln w="28440">
            <a:solidFill>
              <a:srgbClr val="000514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716360" y="2852280"/>
            <a:ext cx="576360" cy="576360"/>
          </a:xfrm>
          <a:prstGeom prst="line">
            <a:avLst/>
          </a:prstGeom>
          <a:ln w="284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76720" y="1197000"/>
            <a:ext cx="43200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2720" y="765000"/>
            <a:ext cx="0" cy="4320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48360" y="4581360"/>
            <a:ext cx="43164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7800" y="2276640"/>
            <a:ext cx="0" cy="57600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2276640"/>
            <a:ext cx="0" cy="57600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64000" y="4149720"/>
            <a:ext cx="0" cy="431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5661000"/>
            <a:ext cx="0" cy="3603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0360" y="5013360"/>
            <a:ext cx="57636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0360" y="5156280"/>
            <a:ext cx="57636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29440" y="4365720"/>
            <a:ext cx="0" cy="647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29440" y="5157720"/>
            <a:ext cx="0" cy="863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64000" y="4365720"/>
            <a:ext cx="86544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595008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429264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19640" y="2492280"/>
            <a:ext cx="144360" cy="1447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595008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92720" y="2565360"/>
            <a:ext cx="86364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92720" y="2276640"/>
            <a:ext cx="0" cy="5760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00720" y="2565360"/>
            <a:ext cx="151128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3500280"/>
            <a:ext cx="129708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3645000"/>
            <a:ext cx="43200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3500280"/>
            <a:ext cx="0" cy="1447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4941720"/>
            <a:ext cx="863640" cy="865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12880" y="4365720"/>
            <a:ext cx="590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B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48240" y="1557360"/>
            <a:ext cx="455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11600" y="486900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01080" y="4076640"/>
            <a:ext cx="503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1280" y="2637000"/>
            <a:ext cx="503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170028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4724280"/>
            <a:ext cx="0" cy="217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58920" y="5805360"/>
            <a:ext cx="0" cy="217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3949560"/>
            <a:ext cx="43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479736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19640" y="69228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692280"/>
            <a:ext cx="144720" cy="144360"/>
          </a:xfrm>
          <a:prstGeom prst="ellipse">
            <a:avLst/>
          </a:prstGeom>
          <a:noFill/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5157720"/>
            <a:ext cx="287280" cy="216000"/>
          </a:xfrm>
          <a:custGeom>
            <a:avLst/>
            <a:gdLst/>
            <a:ahLst/>
            <a:rect l="l" t="t" r="r" b="b"/>
            <a:pathLst>
              <a:path w="181" h="136">
                <a:moveTo>
                  <a:pt x="0" y="136"/>
                </a:moveTo>
                <a:cubicBezTo>
                  <a:pt x="30" y="68"/>
                  <a:pt x="61" y="0"/>
                  <a:pt x="91" y="0"/>
                </a:cubicBezTo>
                <a:cubicBezTo>
                  <a:pt x="121" y="0"/>
                  <a:pt x="158" y="106"/>
                  <a:pt x="181" y="136"/>
                </a:cubicBezTo>
              </a:path>
            </a:pathLst>
          </a:custGeom>
          <a:noFill/>
          <a:ln w="28440">
            <a:solidFill>
              <a:srgbClr val="0005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647000">
            <a:off x="1260360" y="5373720"/>
            <a:ext cx="287280" cy="216000"/>
          </a:xfrm>
          <a:custGeom>
            <a:avLst/>
            <a:gdLst/>
            <a:ahLst/>
            <a:rect l="l" t="t" r="r" b="b"/>
            <a:pathLst>
              <a:path w="181" h="136">
                <a:moveTo>
                  <a:pt x="0" y="136"/>
                </a:moveTo>
                <a:cubicBezTo>
                  <a:pt x="30" y="68"/>
                  <a:pt x="61" y="0"/>
                  <a:pt x="91" y="0"/>
                </a:cubicBezTo>
                <a:cubicBezTo>
                  <a:pt x="121" y="0"/>
                  <a:pt x="158" y="106"/>
                  <a:pt x="181" y="136"/>
                </a:cubicBezTo>
              </a:path>
            </a:pathLst>
          </a:custGeom>
          <a:noFill/>
          <a:ln w="28440">
            <a:solidFill>
              <a:srgbClr val="0005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5102280"/>
            <a:ext cx="43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E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56360" y="476280"/>
            <a:ext cx="936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+U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14200" y="189000"/>
            <a:ext cx="8713800" cy="6480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276720" y="1628640"/>
            <a:ext cx="43164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276720" y="4219560"/>
            <a:ext cx="43164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596360" y="3789360"/>
            <a:ext cx="43164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3492000" y="2708280"/>
            <a:ext cx="1800" cy="15127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00360" y="3500280"/>
            <a:ext cx="201600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987640" y="6021360"/>
            <a:ext cx="482436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812000" y="2565360"/>
            <a:ext cx="0" cy="1225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812000" y="4870440"/>
            <a:ext cx="0" cy="11509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492360" y="5300640"/>
            <a:ext cx="1800" cy="7207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492360" y="765000"/>
            <a:ext cx="237492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94160" y="765000"/>
            <a:ext cx="0" cy="863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97040" y="1773360"/>
            <a:ext cx="606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421080" y="342900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421080" y="5948280"/>
            <a:ext cx="144360" cy="1447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643280" y="6093000"/>
            <a:ext cx="28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146560" y="630864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364000" y="6021360"/>
            <a:ext cx="0" cy="2890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257480" y="6021360"/>
            <a:ext cx="173016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57440" y="3213000"/>
            <a:ext cx="0" cy="57636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700360" y="3213000"/>
            <a:ext cx="0" cy="57636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716360" y="2997360"/>
            <a:ext cx="0" cy="1008000"/>
          </a:xfrm>
          <a:prstGeom prst="line">
            <a:avLst/>
          </a:prstGeom>
          <a:ln w="7632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716360" y="3573360"/>
            <a:ext cx="647640" cy="576360"/>
          </a:xfrm>
          <a:prstGeom prst="line">
            <a:avLst/>
          </a:prstGeom>
          <a:ln w="28440">
            <a:solidFill>
              <a:srgbClr val="000514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716360" y="2852280"/>
            <a:ext cx="576360" cy="576360"/>
          </a:xfrm>
          <a:prstGeom prst="line">
            <a:avLst/>
          </a:prstGeom>
          <a:ln w="284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76720" y="1197000"/>
            <a:ext cx="43200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292720" y="765000"/>
            <a:ext cx="0" cy="4320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148360" y="4581360"/>
            <a:ext cx="43164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157800" y="2276640"/>
            <a:ext cx="0" cy="57600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300720" y="2276640"/>
            <a:ext cx="0" cy="57600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364000" y="4149720"/>
            <a:ext cx="0" cy="431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364000" y="5661000"/>
            <a:ext cx="0" cy="3603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40360" y="5013360"/>
            <a:ext cx="57636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940360" y="5156280"/>
            <a:ext cx="57636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229440" y="4365720"/>
            <a:ext cx="0" cy="647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229440" y="5157720"/>
            <a:ext cx="0" cy="863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364000" y="4365720"/>
            <a:ext cx="86544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292720" y="595008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292720" y="429264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219640" y="2492280"/>
            <a:ext cx="144360" cy="1447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56360" y="595008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92720" y="2565360"/>
            <a:ext cx="86364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292720" y="2276640"/>
            <a:ext cx="0" cy="5760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300720" y="2565360"/>
            <a:ext cx="151128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58920" y="3500280"/>
            <a:ext cx="129708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258920" y="3500280"/>
            <a:ext cx="0" cy="7207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26920" y="4221000"/>
            <a:ext cx="863640" cy="865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612880" y="4365720"/>
            <a:ext cx="590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48240" y="1557360"/>
            <a:ext cx="455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611600" y="486900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101080" y="4076640"/>
            <a:ext cx="503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11280" y="2637000"/>
            <a:ext cx="503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012000" y="170028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258920" y="5084640"/>
            <a:ext cx="0" cy="9381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588000" y="479736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219640" y="69228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867280" y="692280"/>
            <a:ext cx="144720" cy="144360"/>
          </a:xfrm>
          <a:prstGeom prst="ellipse">
            <a:avLst/>
          </a:prstGeom>
          <a:noFill/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71640" y="4437000"/>
            <a:ext cx="287280" cy="216000"/>
          </a:xfrm>
          <a:custGeom>
            <a:avLst/>
            <a:gdLst/>
            <a:ahLst/>
            <a:rect l="l" t="t" r="r" b="b"/>
            <a:pathLst>
              <a:path w="181" h="136">
                <a:moveTo>
                  <a:pt x="0" y="136"/>
                </a:moveTo>
                <a:cubicBezTo>
                  <a:pt x="30" y="68"/>
                  <a:pt x="61" y="0"/>
                  <a:pt x="91" y="0"/>
                </a:cubicBezTo>
                <a:cubicBezTo>
                  <a:pt x="121" y="0"/>
                  <a:pt x="158" y="106"/>
                  <a:pt x="181" y="136"/>
                </a:cubicBezTo>
              </a:path>
            </a:pathLst>
          </a:custGeom>
          <a:noFill/>
          <a:ln w="28440">
            <a:solidFill>
              <a:srgbClr val="0005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10647000">
            <a:off x="1260360" y="4653000"/>
            <a:ext cx="287280" cy="216000"/>
          </a:xfrm>
          <a:custGeom>
            <a:avLst/>
            <a:gdLst/>
            <a:ahLst/>
            <a:rect l="l" t="t" r="r" b="b"/>
            <a:pathLst>
              <a:path w="181" h="136">
                <a:moveTo>
                  <a:pt x="0" y="136"/>
                </a:moveTo>
                <a:cubicBezTo>
                  <a:pt x="30" y="68"/>
                  <a:pt x="61" y="0"/>
                  <a:pt x="91" y="0"/>
                </a:cubicBezTo>
                <a:cubicBezTo>
                  <a:pt x="121" y="0"/>
                  <a:pt x="158" y="106"/>
                  <a:pt x="181" y="136"/>
                </a:cubicBezTo>
              </a:path>
            </a:pathLst>
          </a:custGeom>
          <a:noFill/>
          <a:ln w="28440">
            <a:solidFill>
              <a:srgbClr val="0005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24000" y="4365720"/>
            <a:ext cx="43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E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156360" y="476280"/>
            <a:ext cx="936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+U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92360" y="306396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564000" y="306396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076720" y="26028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32360" y="234936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43564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59640" y="213372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516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Courier New"/>
              </a:rPr>
              <a:t>Wzmacniacz OE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Courier New"/>
              </a:rPr>
              <a:t>R_RG 1 2 200</a:t>
            </a:r>
            <a:r>
              <a:rPr b="1" lang="pl-PL" sz="25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Courier New"/>
              </a:rPr>
              <a:t>R_RB1 4 3 270k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Courier New"/>
              </a:rPr>
              <a:t>R_RB2 3 0 33k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Courier New"/>
              </a:rPr>
              <a:t>R_Rc 4 5 10k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Courier New"/>
              </a:rPr>
              <a:t>R_Re 6 0 1k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Courier New"/>
              </a:rPr>
              <a:t>R_Ro 7 0 10k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Courier New"/>
              </a:rPr>
              <a:t>C_C1 2 3 27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Courier New"/>
              </a:rPr>
              <a:t>C_C2 5 7 47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Courier New"/>
              </a:rPr>
              <a:t>C_Ce 6 0 47u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Courier New"/>
              </a:rPr>
              <a:t>Q_T1 5 3 6 BC107B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Courier New"/>
              </a:rPr>
              <a:t>V_Ucc 4 0 DC 30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500" spc="-1" strike="noStrike">
                <a:solidFill>
                  <a:srgbClr val="ffffff"/>
                </a:solidFill>
                <a:latin typeface="Courier New"/>
              </a:rPr>
              <a:t>V_</a:t>
            </a:r>
            <a:r>
              <a:rPr b="1" lang="pl-PL" sz="2500" spc="-1" strike="noStrike">
                <a:solidFill>
                  <a:srgbClr val="ffffff"/>
                </a:solidFill>
                <a:latin typeface="Courier New"/>
              </a:rPr>
              <a:t>Eg</a:t>
            </a:r>
            <a:r>
              <a:rPr b="1" lang="fi-FI" sz="2500" spc="-1" strike="noStrike">
                <a:solidFill>
                  <a:srgbClr val="ffffff"/>
                </a:solidFill>
                <a:latin typeface="Courier New"/>
              </a:rPr>
              <a:t> 1 0 </a:t>
            </a:r>
            <a:r>
              <a:rPr b="1" lang="pl-PL" sz="2500" spc="-1" strike="noStrike">
                <a:solidFill>
                  <a:srgbClr val="ffffff"/>
                </a:solidFill>
                <a:latin typeface="Courier New"/>
              </a:rPr>
              <a:t>AC</a:t>
            </a:r>
            <a:r>
              <a:rPr b="1" lang="fi-FI" sz="2500" spc="-1" strike="noStrike">
                <a:solidFill>
                  <a:srgbClr val="ffffff"/>
                </a:solidFill>
                <a:latin typeface="Courier New"/>
              </a:rPr>
              <a:t> 5</a:t>
            </a:r>
            <a:r>
              <a:rPr b="1" lang="pl-PL" sz="2500" spc="-1" strike="noStrike">
                <a:solidFill>
                  <a:srgbClr val="ffffff"/>
                </a:solidFill>
                <a:latin typeface="Courier New"/>
              </a:rPr>
              <a:t>m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tapy projekt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Dan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Tranzystor – charakterystyki statyczne 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Parametry punktu pracy – I</a:t>
            </a: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,  U</a:t>
            </a: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CE 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Napięcie zasilania – U</a:t>
            </a: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CC 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Dolna częstotliwość graniczna – f</a:t>
            </a: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d 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Rezystancja obciążenia – R</a:t>
            </a: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tapy projekt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aliza charakterystyk statycznych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dczyt U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la punktu pracy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dczyt I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la punktu pracy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yznaczenie współczynnika wzmocnieni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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tapy projekt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liczenie wartości elementów ustalających punkt pra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liczamy I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zystory 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 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założenie 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10 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zystory 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 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założenie I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10 I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1628640"/>
            <a:ext cx="43164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4219560"/>
            <a:ext cx="43164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492000" y="2708280"/>
            <a:ext cx="1800" cy="15127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360" y="3500280"/>
            <a:ext cx="122400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92360" y="6165720"/>
            <a:ext cx="187164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5300640"/>
            <a:ext cx="0" cy="8650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360" y="765000"/>
            <a:ext cx="302436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4160" y="765000"/>
            <a:ext cx="0" cy="863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97040" y="1773360"/>
            <a:ext cx="606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B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21080" y="342900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6560" y="6453360"/>
            <a:ext cx="43344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6164280"/>
            <a:ext cx="0" cy="2890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2997360"/>
            <a:ext cx="0" cy="1008000"/>
          </a:xfrm>
          <a:prstGeom prst="line">
            <a:avLst/>
          </a:prstGeom>
          <a:ln w="7632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3573360"/>
            <a:ext cx="647640" cy="576360"/>
          </a:xfrm>
          <a:prstGeom prst="line">
            <a:avLst/>
          </a:prstGeom>
          <a:ln w="28440">
            <a:solidFill>
              <a:srgbClr val="000514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16360" y="2852280"/>
            <a:ext cx="576360" cy="576360"/>
          </a:xfrm>
          <a:prstGeom prst="line">
            <a:avLst/>
          </a:prstGeom>
          <a:ln w="284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76720" y="1197000"/>
            <a:ext cx="43200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765000"/>
            <a:ext cx="0" cy="4320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8360" y="4724280"/>
            <a:ext cx="43164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64000" y="4149720"/>
            <a:ext cx="0" cy="5745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64000" y="5805360"/>
            <a:ext cx="0" cy="3603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92720" y="609300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92720" y="2276640"/>
            <a:ext cx="0" cy="5760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12880" y="4365720"/>
            <a:ext cx="590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B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48240" y="1557360"/>
            <a:ext cx="455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11600" y="486900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69228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5280" y="692280"/>
            <a:ext cx="144360" cy="144360"/>
          </a:xfrm>
          <a:prstGeom prst="ellipse">
            <a:avLst/>
          </a:prstGeom>
          <a:noFill/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30920" y="476280"/>
            <a:ext cx="936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urier New"/>
              </a:rPr>
              <a:t>+U</a:t>
            </a:r>
            <a:r>
              <a:rPr b="1" lang="en-US" sz="2000" spc="-1" strike="noStrike">
                <a:solidFill>
                  <a:srgbClr val="000514"/>
                </a:solidFill>
                <a:latin typeface="Courier New"/>
              </a:rPr>
              <a:t>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796000" y="1197000"/>
            <a:ext cx="0" cy="1008000"/>
          </a:xfrm>
          <a:prstGeom prst="line">
            <a:avLst/>
          </a:prstGeom>
          <a:ln w="349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796000" y="2781360"/>
            <a:ext cx="0" cy="1295280"/>
          </a:xfrm>
          <a:prstGeom prst="line">
            <a:avLst/>
          </a:prstGeom>
          <a:ln w="349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796000" y="4723920"/>
            <a:ext cx="0" cy="1079640"/>
          </a:xfrm>
          <a:prstGeom prst="line">
            <a:avLst/>
          </a:prstGeom>
          <a:ln w="349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659640" y="907920"/>
            <a:ext cx="0" cy="4897440"/>
          </a:xfrm>
          <a:prstGeom prst="line">
            <a:avLst/>
          </a:prstGeom>
          <a:ln w="349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2720" y="2349360"/>
            <a:ext cx="0" cy="360360"/>
          </a:xfrm>
          <a:prstGeom prst="line">
            <a:avLst/>
          </a:prstGeom>
          <a:ln w="442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64000" y="4221000"/>
            <a:ext cx="0" cy="360360"/>
          </a:xfrm>
          <a:prstGeom prst="line">
            <a:avLst/>
          </a:prstGeom>
          <a:ln w="442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2360" y="1052640"/>
            <a:ext cx="0" cy="360360"/>
          </a:xfrm>
          <a:prstGeom prst="line">
            <a:avLst/>
          </a:prstGeom>
          <a:ln w="442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2360" y="3716280"/>
            <a:ext cx="0" cy="360360"/>
          </a:xfrm>
          <a:prstGeom prst="line">
            <a:avLst/>
          </a:prstGeom>
          <a:ln w="442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3500280"/>
            <a:ext cx="360360" cy="0"/>
          </a:xfrm>
          <a:prstGeom prst="line">
            <a:avLst/>
          </a:prstGeom>
          <a:ln w="442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340000" y="4292640"/>
            <a:ext cx="0" cy="1008000"/>
          </a:xfrm>
          <a:prstGeom prst="line">
            <a:avLst/>
          </a:prstGeom>
          <a:ln w="349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340000" y="1700280"/>
            <a:ext cx="0" cy="1008000"/>
          </a:xfrm>
          <a:prstGeom prst="line">
            <a:avLst/>
          </a:prstGeom>
          <a:ln w="349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5607000" y="1456920"/>
            <a:ext cx="1008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Courier New"/>
              </a:rPr>
              <a:t>I</a:t>
            </a:r>
            <a:r>
              <a:rPr b="1" lang="pl-PL" sz="2400" spc="-1" strike="noStrike">
                <a:solidFill>
                  <a:srgbClr val="003399"/>
                </a:solidFill>
                <a:latin typeface="Courier New"/>
              </a:rPr>
              <a:t>c</a:t>
            </a:r>
            <a:r>
              <a:rPr b="1" lang="pl-PL" sz="3200" spc="-1" strike="noStrike">
                <a:solidFill>
                  <a:srgbClr val="003399"/>
                </a:solidFill>
                <a:latin typeface="Courier New"/>
              </a:rPr>
              <a:t>R</a:t>
            </a:r>
            <a:r>
              <a:rPr b="1" lang="pl-PL" sz="2400" spc="-1" strike="noStrike">
                <a:solidFill>
                  <a:srgbClr val="003399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5608800" y="4982760"/>
            <a:ext cx="1008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E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5715720" y="3219840"/>
            <a:ext cx="790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U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75240" y="422100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227664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24360" y="2924280"/>
            <a:ext cx="46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35280" y="981000"/>
            <a:ext cx="64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B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3573360"/>
            <a:ext cx="64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B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1737000" y="4623840"/>
            <a:ext cx="718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U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B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1737000" y="2031480"/>
            <a:ext cx="718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U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B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211640" y="3860280"/>
            <a:ext cx="792000" cy="576360"/>
          </a:xfrm>
          <a:prstGeom prst="line">
            <a:avLst/>
          </a:prstGeom>
          <a:ln w="349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67280" y="4221000"/>
            <a:ext cx="654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U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Obliczenia – układ polaryzacji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+I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+U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CE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=U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C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00"/>
                </a:solidFill>
                <a:latin typeface="Garamond"/>
              </a:rPr>
              <a:t>R</a:t>
            </a:r>
            <a:r>
              <a:rPr b="0" lang="pl-PL" sz="3200" spc="-1" strike="noStrike">
                <a:solidFill>
                  <a:srgbClr val="ffff00"/>
                </a:solidFill>
                <a:latin typeface="Garamond"/>
              </a:rPr>
              <a:t>C</a:t>
            </a:r>
            <a:r>
              <a:rPr b="0" lang="pl-PL" sz="4800" spc="-1" strike="noStrike">
                <a:solidFill>
                  <a:srgbClr val="ffff00"/>
                </a:solidFill>
                <a:latin typeface="Garamond"/>
              </a:rPr>
              <a:t>=10R</a:t>
            </a:r>
            <a:r>
              <a:rPr b="0" lang="pl-PL" sz="2800" spc="-1" strike="noStrike">
                <a:solidFill>
                  <a:srgbClr val="ffff00"/>
                </a:solidFill>
                <a:latin typeface="Garamond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10I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+I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=U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CC</a:t>
            </a:r>
            <a:r>
              <a:rPr b="0" lang="pl-PL" sz="4800" spc="-1" strike="noStrike">
                <a:solidFill>
                  <a:srgbClr val="ffffff"/>
                </a:solidFill>
                <a:latin typeface="Garamond"/>
              </a:rPr>
              <a:t>-U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00"/>
                </a:solidFill>
                <a:latin typeface="Garamond"/>
              </a:rPr>
              <a:t>R</a:t>
            </a:r>
            <a:r>
              <a:rPr b="0" lang="pl-PL" sz="2800" spc="-1" strike="noStrike">
                <a:solidFill>
                  <a:srgbClr val="ffff00"/>
                </a:solidFill>
                <a:latin typeface="Garamond"/>
              </a:rPr>
              <a:t>E</a:t>
            </a:r>
            <a:r>
              <a:rPr b="0" lang="pl-PL" sz="4800" spc="-1" strike="noStrike">
                <a:solidFill>
                  <a:srgbClr val="ffff00"/>
                </a:solidFill>
                <a:latin typeface="Garamond"/>
              </a:rPr>
              <a:t>=[U</a:t>
            </a:r>
            <a:r>
              <a:rPr b="0" lang="pl-PL" sz="3200" spc="-1" strike="noStrike">
                <a:solidFill>
                  <a:srgbClr val="ffff00"/>
                </a:solidFill>
                <a:latin typeface="Garamond"/>
              </a:rPr>
              <a:t>CC</a:t>
            </a:r>
            <a:r>
              <a:rPr b="0" lang="pl-PL" sz="4800" spc="-1" strike="noStrike">
                <a:solidFill>
                  <a:srgbClr val="ffff00"/>
                </a:solidFill>
                <a:latin typeface="Garamond"/>
              </a:rPr>
              <a:t>-U</a:t>
            </a:r>
            <a:r>
              <a:rPr b="0" lang="pl-PL" sz="3200" spc="-1" strike="noStrike">
                <a:solidFill>
                  <a:srgbClr val="ffff00"/>
                </a:solidFill>
                <a:latin typeface="Garamond"/>
              </a:rPr>
              <a:t>CE</a:t>
            </a:r>
            <a:r>
              <a:rPr b="0" lang="pl-PL" sz="4800" spc="-1" strike="noStrike">
                <a:solidFill>
                  <a:srgbClr val="ffff00"/>
                </a:solidFill>
                <a:latin typeface="Garamond"/>
              </a:rPr>
              <a:t>]/[10I</a:t>
            </a:r>
            <a:r>
              <a:rPr b="0" lang="pl-PL" sz="2800" spc="-1" strike="noStrike">
                <a:solidFill>
                  <a:srgbClr val="ffff00"/>
                </a:solidFill>
                <a:latin typeface="Garamond"/>
              </a:rPr>
              <a:t>C</a:t>
            </a:r>
            <a:r>
              <a:rPr b="0" lang="pl-PL" sz="4800" spc="-1" strike="noStrike">
                <a:solidFill>
                  <a:srgbClr val="ffff00"/>
                </a:solidFill>
                <a:latin typeface="Garamond"/>
              </a:rPr>
              <a:t>+I</a:t>
            </a:r>
            <a:r>
              <a:rPr b="0" lang="pl-PL" sz="3200" spc="-1" strike="noStrike">
                <a:solidFill>
                  <a:srgbClr val="ffff00"/>
                </a:solidFill>
                <a:latin typeface="Garamond"/>
              </a:rPr>
              <a:t>E</a:t>
            </a:r>
            <a:r>
              <a:rPr b="0" lang="pl-PL" sz="4800" spc="-1" strike="noStrike">
                <a:solidFill>
                  <a:srgbClr val="ffff00"/>
                </a:solidFill>
                <a:latin typeface="Garamond"/>
              </a:rPr>
              <a:t>]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Obliczenia  – układ polaryzacji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1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=10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2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=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1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-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2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=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+U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1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=U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C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-U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Garamond"/>
              </a:rPr>
              <a:t>R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B1</a:t>
            </a:r>
            <a:r>
              <a:rPr b="0" lang="en-US" sz="4800" spc="-1" strike="noStrike">
                <a:solidFill>
                  <a:srgbClr val="ffff00"/>
                </a:solidFill>
                <a:latin typeface="Garamond"/>
              </a:rPr>
              <a:t>=U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B1</a:t>
            </a:r>
            <a:r>
              <a:rPr b="0" lang="en-US" sz="4800" spc="-1" strike="noStrike">
                <a:solidFill>
                  <a:srgbClr val="ffff00"/>
                </a:solidFill>
                <a:latin typeface="Garamond"/>
              </a:rPr>
              <a:t>/I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B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Garamond"/>
              </a:rPr>
              <a:t>R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B2</a:t>
            </a:r>
            <a:r>
              <a:rPr b="0" lang="en-US" sz="4800" spc="-1" strike="noStrike">
                <a:solidFill>
                  <a:srgbClr val="ffff00"/>
                </a:solidFill>
                <a:latin typeface="Garamond"/>
              </a:rPr>
              <a:t>=U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B2</a:t>
            </a:r>
            <a:r>
              <a:rPr b="0" lang="en-US" sz="4800" spc="-1" strike="noStrike">
                <a:solidFill>
                  <a:srgbClr val="ffff00"/>
                </a:solidFill>
                <a:latin typeface="Garamond"/>
              </a:rPr>
              <a:t>/I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B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2920" y="836640"/>
            <a:ext cx="8893080" cy="33130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1774800"/>
            <a:ext cx="28908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08720" y="3070080"/>
            <a:ext cx="0" cy="7923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1701720"/>
            <a:ext cx="144360" cy="1447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076720" y="2205000"/>
            <a:ext cx="863640" cy="865080"/>
            <a:chOff x="5076720" y="2205000"/>
            <a:chExt cx="863640" cy="865080"/>
          </a:xfrm>
        </p:grpSpPr>
        <p:sp>
          <p:nvSpPr>
            <p:cNvPr id="232" name=""/>
            <p:cNvSpPr/>
            <p:nvPr/>
          </p:nvSpPr>
          <p:spPr>
            <a:xfrm>
              <a:off x="5076720" y="2205000"/>
              <a:ext cx="863640" cy="865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84720" y="2313000"/>
              <a:ext cx="647640" cy="647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08720" y="2422440"/>
              <a:ext cx="0" cy="4316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 rot="16200000">
            <a:off x="2089080" y="1377720"/>
            <a:ext cx="287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00360" y="2567160"/>
            <a:ext cx="28728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43280" y="3862440"/>
            <a:ext cx="410508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08720" y="1774800"/>
            <a:ext cx="0" cy="4302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1774800"/>
            <a:ext cx="324000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9080" y="1774800"/>
            <a:ext cx="21564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44720" y="1774800"/>
            <a:ext cx="0" cy="7923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44720" y="3359160"/>
            <a:ext cx="0" cy="5032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64000" y="3790800"/>
            <a:ext cx="144360" cy="1447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0000" y="3070080"/>
            <a:ext cx="1150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514"/>
                </a:solidFill>
                <a:latin typeface="Courier New"/>
              </a:rPr>
              <a:t>g</a:t>
            </a:r>
            <a:r>
              <a:rPr b="1" lang="pl-PL" sz="2000" spc="-1" strike="noStrike">
                <a:solidFill>
                  <a:srgbClr val="000514"/>
                </a:solidFill>
                <a:latin typeface="Courier New"/>
              </a:rPr>
              <a:t>m</a:t>
            </a:r>
            <a:r>
              <a:rPr b="1" lang="pl-PL" sz="3200" spc="-1" strike="noStrike">
                <a:solidFill>
                  <a:srgbClr val="000514"/>
                </a:solidFill>
                <a:latin typeface="Courier New"/>
              </a:rPr>
              <a:t>U</a:t>
            </a:r>
            <a:r>
              <a:rPr b="1" lang="pl-PL" sz="2000" spc="-1" strike="noStrike">
                <a:solidFill>
                  <a:srgbClr val="000514"/>
                </a:solidFill>
                <a:latin typeface="Courier New"/>
              </a:rPr>
              <a:t>b’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79640" y="1127160"/>
            <a:ext cx="504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pl-PL" sz="1200" spc="-1" strike="noStrike">
                <a:solidFill>
                  <a:srgbClr val="000514"/>
                </a:solidFill>
                <a:latin typeface="Courier New"/>
              </a:rPr>
              <a:t>bb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497400"/>
            <a:ext cx="24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03280" y="1343160"/>
            <a:ext cx="23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44720" y="1343160"/>
            <a:ext cx="447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b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35280" y="2782800"/>
            <a:ext cx="736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pl-PL" sz="1600" spc="-1" strike="noStrike">
                <a:solidFill>
                  <a:srgbClr val="000514"/>
                </a:solidFill>
                <a:latin typeface="Courier New"/>
              </a:rPr>
              <a:t>b’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35640" y="1343160"/>
            <a:ext cx="24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3502080"/>
            <a:ext cx="136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pl-PL" sz="1200" spc="-1" strike="noStrike">
                <a:solidFill>
                  <a:srgbClr val="000514"/>
                </a:solidFill>
                <a:latin typeface="Courier New"/>
              </a:rPr>
              <a:t>bb’</a:t>
            </a:r>
            <a:r>
              <a:rPr b="1" lang="pl-PL" sz="1800" spc="-1" strike="noStrike">
                <a:solidFill>
                  <a:srgbClr val="000514"/>
                </a:solidFill>
                <a:latin typeface="Courier New"/>
              </a:rPr>
              <a:t>&lt;&lt;</a:t>
            </a:r>
            <a:r>
              <a:rPr b="1" lang="pl-PL" sz="28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pl-PL" sz="1200" spc="-1" strike="noStrike">
                <a:solidFill>
                  <a:srgbClr val="000514"/>
                </a:solidFill>
                <a:latin typeface="Courier New"/>
              </a:rPr>
              <a:t>b’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Schemat zastępczy tranzystora – hybryd </a:t>
            </a:r>
            <a:r>
              <a:rPr b="1" lang="en-US" sz="2800" spc="-1" strike="noStrike">
                <a:solidFill>
                  <a:srgbClr val="e5e5ff"/>
                </a:solidFill>
                <a:latin typeface="Symbol"/>
                <a:ea typeface="Symbol"/>
              </a:rPr>
              <a:t>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"/>
          <p:cNvSpPr/>
          <p:nvPr/>
        </p:nvSpPr>
        <p:spPr>
          <a:xfrm>
            <a:off x="3348000" y="2798640"/>
            <a:ext cx="57636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48000" y="2941560"/>
            <a:ext cx="576360" cy="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35280" y="2925720"/>
            <a:ext cx="0" cy="8636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67280" y="2583000"/>
            <a:ext cx="64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514"/>
                </a:solidFill>
                <a:latin typeface="Courier New"/>
              </a:rPr>
              <a:t>C</a:t>
            </a:r>
            <a:r>
              <a:rPr b="1" lang="pl-PL" sz="2000" spc="-1" strike="noStrike">
                <a:solidFill>
                  <a:srgbClr val="000514"/>
                </a:solidFill>
                <a:latin typeface="Courier New"/>
              </a:rPr>
              <a:t>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1846440"/>
            <a:ext cx="0" cy="9349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284720" y="1486080"/>
            <a:ext cx="0" cy="57600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427640" y="1486080"/>
            <a:ext cx="0" cy="576000"/>
          </a:xfrm>
          <a:prstGeom prst="line">
            <a:avLst/>
          </a:prstGeom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67280" y="909720"/>
            <a:ext cx="64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514"/>
                </a:solidFill>
                <a:latin typeface="Courier New"/>
              </a:rPr>
              <a:t>C</a:t>
            </a:r>
            <a:r>
              <a:rPr b="1" lang="pl-PL" sz="2000" spc="-1" strike="noStrike">
                <a:solidFill>
                  <a:srgbClr val="000514"/>
                </a:solidFill>
                <a:latin typeface="Courier New"/>
              </a:rPr>
              <a:t>j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43280" y="1774800"/>
            <a:ext cx="144144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64000" y="1701720"/>
            <a:ext cx="144360" cy="1447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71640" y="1701720"/>
            <a:ext cx="144720" cy="1447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9280" y="4221000"/>
            <a:ext cx="759312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r </a:t>
            </a:r>
            <a:r>
              <a:rPr b="1" lang="pl-PL" sz="1800" spc="-1" strike="noStrike">
                <a:solidFill>
                  <a:srgbClr val="ffffff"/>
                </a:solidFill>
                <a:latin typeface="Garamond"/>
              </a:rPr>
              <a:t>bb’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rezystancja bazy (50..400</a:t>
            </a:r>
            <a:r>
              <a:rPr b="0" lang="pl-PL" sz="2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r </a:t>
            </a:r>
            <a:r>
              <a:rPr b="1" lang="pl-PL" sz="1800" spc="-1" strike="noStrike">
                <a:solidFill>
                  <a:srgbClr val="ffffff"/>
                </a:solidFill>
                <a:latin typeface="Garamond"/>
              </a:rPr>
              <a:t>b’e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rezystancja bazy-emiter (1..5k</a:t>
            </a:r>
            <a:r>
              <a:rPr b="0" lang="pl-PL" sz="2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r </a:t>
            </a:r>
            <a:r>
              <a:rPr b="1" lang="pl-PL" sz="1800" spc="-1" strike="noStrike">
                <a:solidFill>
                  <a:srgbClr val="ffffff"/>
                </a:solidFill>
                <a:latin typeface="Garamond"/>
              </a:rPr>
              <a:t>ce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rezystancja kolektor-emiter (kilkadziesiąt k</a:t>
            </a:r>
            <a:r>
              <a:rPr b="0" lang="pl-PL" sz="2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 m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transkonduktancja Ic [mA]/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 je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pojemność złącza baza-emiter (kilkaset p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pl-PL" sz="2000" spc="-1" strike="noStrike">
                <a:solidFill>
                  <a:srgbClr val="ffffff"/>
                </a:solidFill>
                <a:latin typeface="Garamond"/>
              </a:rPr>
              <a:t> jc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pojemność złącza baza-kolektor (kilka p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04000" y="2567160"/>
            <a:ext cx="28728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48360" y="1774800"/>
            <a:ext cx="0" cy="79236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48360" y="3359160"/>
            <a:ext cx="0" cy="5032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75640" y="1701720"/>
            <a:ext cx="144360" cy="14472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435640" y="3789360"/>
            <a:ext cx="144360" cy="144360"/>
          </a:xfrm>
          <a:prstGeom prst="ellipse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91440" y="2709720"/>
            <a:ext cx="520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514"/>
                </a:solidFill>
                <a:latin typeface="Courier New"/>
              </a:rPr>
              <a:t>r</a:t>
            </a:r>
            <a:r>
              <a:rPr b="1" lang="pl-PL" sz="1600" spc="-1" strike="noStrike">
                <a:solidFill>
                  <a:srgbClr val="000514"/>
                </a:solidFill>
                <a:latin typeface="Courier New"/>
              </a:rPr>
              <a:t>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07:42Z</dcterms:created>
  <dc:creator>PE</dc:creator>
  <dc:description/>
  <dc:language>en-US</dc:language>
  <cp:lastModifiedBy>PE</cp:lastModifiedBy>
  <dcterms:modified xsi:type="dcterms:W3CDTF">2006-12-07T12:39:16Z</dcterms:modified>
  <cp:revision>49</cp:revision>
  <dc:subject/>
  <dc:title>PSpice</dc:title>
</cp:coreProperties>
</file>